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04EA57-FB79-4DC9-B35A-91ECBF7A6A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3CF428-CD8B-4017-864C-AAA89E0785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9697C0-4CFB-4075-A244-9A09CCC0AE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A7CD85-774C-49C1-AB0E-A9A2162DFA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1783C2-B054-4262-BB1C-7B6824317F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724BBF-C840-447D-8620-AEA71E3350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BB2D09-BB1C-49E6-AF09-219E464FD5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8B87D6-BD4C-486D-8183-DC84976B17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C9E3C4-9253-413E-BEC3-B4DF07F2A2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47B195-DE2F-4615-86E2-ABB6DBA057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13E47D-7F01-4943-A869-E4B4210956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129996-873B-4FAA-B948-DC6159E945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0F1E21-DBBB-4975-AF80-EB5FE9DA3A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FF63C2-1E9F-46CD-AF73-D6A45DBEAF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9F0791-3934-44AD-BA91-CA9CF852BA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6ABF28C-39FD-492F-9D40-A336691D92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3F4CE2-6B59-4EBE-AFC3-B8B2708394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EBC5C9-59BA-4E14-A6DC-A4A6BD36BC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0DE45D-4D3A-4CA9-8F28-CA7A9C0747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101DAC-864A-4BFD-B522-2DFFC99C4E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67CBF5-9593-4929-B296-441CF912DC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4AF85B-64D0-412B-8051-3A2C019F4B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7DCD67-72DE-4EFD-86BF-6A73F4AF6B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AA73E6-5C8C-468D-89DB-1F95310225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BFC28-872C-4EDF-818E-FBD08EF59EB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2A049-C024-4701-9421-F6CBCE09218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80FA6DF-5D6B-4921-9559-E00F05E471B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5AB17D9-E67E-4BE3-B484-EBFC86FDE06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353D85-76BE-4DB0-8718-012A37BF019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4FB95D-C975-4C02-9FFC-2307875F652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64F4BD-5848-48B2-A1BA-44C395A2F9C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077072-5875-4B7E-AFC7-2DBFDA6B7D2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A39E9A-DC33-4904-A952-C7A57213DA3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4CA1E7-F7B2-45F6-84B7-E844106E0EFD}"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5F9ECE-8D60-4957-89AE-288C6C9B6467}"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4BA7A8-9855-401B-9BF4-5488FE959C32}"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41791C-C07E-427C-9893-92959060EAD8}"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67D22F-CB86-44C2-9D83-D6A680809374}"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61D349-5D12-4FAD-BEA1-1D184D35C996}"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8B0A8D-3A6A-4BAA-84D3-D90E51373D66}"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0EF3F3-6604-459F-A9E4-387E3FE2DB69}"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54DF8E-1317-44D1-83C4-3760A502B594}"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D33FED-53E6-4F27-96FA-FC7326C0C9DD}"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412C63-4FDE-4D1F-8B92-595AE1B76615}"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5F20EE-3ACB-4C5B-B521-9FDECAA2A550}"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83A54B-5764-49A3-A0E2-CA8C7EB279B9}"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593E97-E365-48A4-8BB4-0DAF4B5FCCAB}"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0FA6B3-4DE1-4F06-BED3-83FF8FAFD6E5}"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CF58DB-71BC-4C81-8A6B-7AAADEE2A531}"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537C84-CEFB-4DD7-8F2B-4AFABC8FC624}"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42DEFD-BAAB-4810-BA2D-26A6174FCFA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164856-6924-444C-835F-309A311A6A83}"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96A185-D0B5-4CCC-B41A-FF03DBACC898}"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A2C8EB8-F256-4D6B-BD4F-6A07840E39E3}"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CC5013-686B-498A-8959-F547F9170347}"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ED923F-C796-4068-B152-96AB9E7409ED}"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816CB8-B5C0-4839-A5E0-02B02D133A56}"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7AFAAA-F602-453F-8FB2-210B1CD3C355}"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C6EC39-02C5-47AF-8F42-88262C28A92C}"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B27FD2-A5DA-4349-B2DE-12A57C36DBAC}"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923210-17B5-4DC1-9FCC-E36A0D841213}"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12E01E-7D00-48D5-87EC-7DD6D442A45A}"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8D7A8F-C022-42E5-A21E-6E25EFE6E43B}"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79F808-3661-4808-9284-8B68C1B757AD}"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F809A4-1B63-49D6-9E99-371D6027EF38}"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47EEB8-534A-4558-872C-E39650042659}"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7D101C-C500-455A-85FC-9E075E1764A4}"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7AEBE4-5A94-40B8-ADCE-B1D034B7C2E8}"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070142-E3C6-41E3-B29B-BB6305CD0AE2}"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B86E7B-EEA5-4887-8E5E-3B9FB1729A7B}"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FD7CF6-7D66-4ECA-BEBB-65A0373D64AA}"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3F7CA4-8341-4240-BA39-D5E2BF2F6486}"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289D49-9DA2-49C5-9D63-13F6B6B03F6A}"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87388E-96B1-421A-916D-EC5B364C51CE}"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C89345F-011A-47D3-8FBB-C9F1F57C3B52}"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97FB5C-70B7-4AC0-B82C-0D0ADA878585}"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B7F60E-DA14-4187-B542-7A20E7E188BC}"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B57858F-2653-42E5-B35D-91F9BE4E0C3A}"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68013F-87AD-4A41-9630-58C6A6F03A2C}"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2F60BD-8C09-425B-BC22-5BE69AFB24CC}"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138A26-50ED-46D5-B8B5-F6D627FB9EB1}"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3E0BE6-4484-4959-B6C3-C6EA16135DAA}"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D23507-A6FF-4A49-B335-98E2E7FAE8A2}"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D94103-34AA-4501-B024-2C3D23934BAC}"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1D03A5-6C70-4DAA-A3AC-BCA9C066796D}"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FA14EE6-5FBA-4016-AB87-F771C0CF4E6F}"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73F15D-FA3E-453E-8332-B3BD09070EE5}"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8CC9A6-91A9-4A02-80D4-703E4754F78C}"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B19825-5E90-4531-AE82-84DA1CCC4757}"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3434C7-BB32-4652-A7AF-A26788F8DE2A}"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EB52B7-955C-4455-B4D4-FEB97AFB171E}"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F8138B2-83E6-4DC3-AE2E-0C3279D724B0}"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28BDDF-6916-4C4D-923B-9A41B6CB92B6}"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26A6B0-858D-4A1E-BA93-3F2305512C43}"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316AEA-B7FF-4E82-94AB-3F8ABECAD850}"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1190C3-9ABD-40B4-B23D-846F215CA6B1}"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AF51812-FEF1-4A74-9941-16325EB76B53}"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68F544-975D-4FAA-B478-AFF55D1BE92D}"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547CE1-DCC6-457A-B0CB-E624A8D4D809}"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F1C682-CE9C-4B29-B9DD-417971A79B72}"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6EAB18-4907-4140-B66C-8E05E0B5AF8C}"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15495C-294A-4648-A1E2-AA2866D92132}"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1A5A71-C86B-4A5E-B7D9-8033512B16FF}"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6E9A56C-926A-4DD7-BAAE-64F55E5C5E64}"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CB5850-8C67-4860-A8D7-269880CB855B}"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992B1D-C8A4-46A7-B185-DC10D8E6E125}"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033CBA-B19E-4F84-AB18-1DE202EB7B0A}"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1ECDDA5-3925-4D37-A6A0-BBFA1C3D8D24}"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55C24A-0524-4DC5-851E-0F21AF0A7E87}"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7581913-64AE-44CC-A23C-7836A113D112}"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D02EEA-B64A-43AB-B467-56E6940AC8B1}"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5BE077-DA88-49EE-9AC8-A1DC9BD55B78}"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5B895A-1798-455D-AECA-6E2EF1695191}"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853835-013E-4A7A-82FA-3D89AC5F18EC}"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37910B-8AFE-4F04-8105-5F4676047853}"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6698CC-7538-4AF2-989B-B2307EE72438}"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C136AA-3BF8-4FDC-B1FE-20ECE1A5BA67}"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27C1E5-1FDA-4945-9F54-81260D2B40DD}"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F0F5F0-F0DD-4136-8024-339FFBB0E000}"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6338CB-9C03-4D6E-AD09-5A8AF48FE204}"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713AB5-9F62-4325-8739-565209812F9C}"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B67462-6D28-4F3B-81CE-EB8340C3DA78}"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7E4F62-CDCB-4103-83E6-07F1DD981442}"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62CD71-60CA-49E4-B1D8-01D62E02F0DD}"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66B0F9-2338-48E9-B3E8-2FDA4CF4D897}"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D01C6A8-8419-48DC-AF8B-5D76AFA85F43}"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E4673D-83BF-49D9-A218-7D07BE6DECCD}"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EB1A22-D379-4A04-83C9-8A86E1C97E95}"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6FCCFB-B64A-4445-80C4-20BA257E7723}"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33C120-68F5-4712-A22E-0B16ECA4804D}"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67E0F2-B950-4E7F-87C4-9930ADD0953B}"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917A24-0D98-4D5D-AEFD-91573968D1B3}"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055419-394A-4FB0-B0CA-25F928A1EA4F}"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CCA0D0-369A-42E8-B4B7-EC0FC8DEB8E7}"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9CB3A4-E27E-439B-ABF5-F4E3461034CC}"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8C6BD5-FD1A-4AE9-AC16-28AD15A967F0}"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DDF4DC-0AEB-4AAF-BAC7-7256269EBF50}"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D845E8-9E0E-4A20-884F-11EEFEDD516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75A233-EFA5-4077-98D7-8A8593903409}"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E8F61E-1833-4FCB-BA7A-167E41BFE604}"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18ED16-E6E9-4160-A5D1-6487B13542A4}"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1E9F7C-91E8-4F06-B596-1D08B2EF4DAA}"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6A6518-6DDD-4EF0-94E9-525585539C23}"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28680E-F1A6-4BC6-AF5E-2C43D9C84DA2}"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4D58AE-E95E-43BF-8076-D623B51FABFC}"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394154-84F4-40C9-833D-C6FCFB1A6436}"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1EB016-86DC-4576-95FF-A26510F95377}"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23B33E-5CB3-43B9-8BB1-4930B616FC22}"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F7078A-EE49-4250-B3DE-DA3BD9E17F54}"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271BEA-088C-4B38-902C-5FD53220E1B7}"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8DC365-12ED-47B8-9A8B-189A83867285}"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D84C2F-31FA-46AF-B7BD-642B7AFA6BFA}"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29079C-8391-4036-9BA7-180B2EFF7267}"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6C8944B-EFD9-476C-A3D7-D2D9DD8DD916}"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B73214-78BB-481B-B835-2E29F5B631B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06080B-203A-460C-BD0A-9E092CA00D4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CE68BD-AFBE-47E8-90B4-B36E5E615F0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B63E8A-1454-451D-88B5-90C0A92924E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933A97-1A6F-4327-AA19-809DE402A78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B6BFB7-4106-452B-AC78-5E30B71A066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A0E07CA-C35E-4F90-BCA3-734506E2F08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8496A8-6451-433F-8AFC-06084E064C8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2E9199-6937-4ACB-B0C1-F90E9FC13D1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B8D2B9-BCEF-4340-AB87-B2D865F2AFB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1770A7-FAE5-4A6C-A3B8-A9DC92361C4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A2F5F5-A1E3-4867-9635-E4314DEFB8D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F2F605-9370-4CF1-A6E5-78869B63E7F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1F19EB-2CEE-4FCA-A227-331BA1A81DE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FA0BDD-C4F3-4E75-BB42-4954AFE1FE7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131F29-BF5B-40C6-9D62-23C2724B32A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3AA761-264B-4388-A14E-47E9BE1EF43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C6F6E2-BA6F-40CA-AEAE-53E127CCA00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08D4FE-78CB-482C-A4DB-A47CCB6388A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7FE5BB-E064-4329-BF38-60F52A19F18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CB3755-3F11-4CBF-9C40-A28D21CFFB1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56C02F-5DF6-410B-94C4-D3468357ADA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740CB1-7EAF-40A9-8143-F53854E29D6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7EE15D-9A98-4E63-8F64-4F51CDD9A83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D40C65-C3C5-4935-8534-18AE1C36746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67DE4D-F448-4C13-B99C-1274B709CC8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A5827D-6D99-4E17-B89D-60383629CDF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0425D6-E50F-4135-9253-F89045C3C1A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2BE12E-7450-4A96-B029-71A531FF2FC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E6CC49-32B5-4E3F-8178-82F732876C1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B6FD6E-F404-4980-8E7A-450287539F5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062C51-042D-49A0-A40E-E9D7A9A3979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5EA537-137F-4711-A426-793B074DB89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5FB856-EADF-4768-9593-DF0ACCC256D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86DD0B-7FB7-4141-B986-F04D7EEEC27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4FF598-C17C-421D-BDB3-7B5CB1C6FFA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811BCA-CFB0-496A-90DF-F2B439B398C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A61BA6-F6DF-44F5-922A-9885CE1B6C2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E01C61-9D39-4633-97A7-5A1DBA380F8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72C9FC-E704-40E9-9251-B7C0B8BBE3C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73CBF7-009F-4007-BA0B-30633E1AFC7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E21F22-7ABE-4057-839B-DB3B23ADF3D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037908-8CD4-4CD5-84E7-68D414F8C7E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AEFFA4-E4BC-4BCF-AB59-E52B0661827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CB25AD-1D63-4E5A-97F1-E50EE754D77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1EB8B7-C8BB-4415-A71A-8695BABC04B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1C7D81-E354-49EC-AA22-07009583FC3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6EFF235-2A49-4AF0-B9FE-B3CA940EDFB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B02830-134E-4ACD-9EB2-E8E8D81644F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E77392-205D-4B89-8131-D53C48B80BB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32FBD1-AF49-49C8-ACB1-F47EF862EFF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1C80B5-606F-4EA8-986D-978AF3FA0F7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569277-B0A9-44A2-A65C-ACEC7BE3F6D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2A6DF4-BD3F-45D8-BAB1-01A7E2B66E8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6AEE6B-85A0-46AF-BBE7-B0C3974EA77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7D6C9D-1A6E-460E-B4F0-E8DC550D05D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EFAA6E2-AD7A-4C8B-81FA-A7685F64B5E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9C34A7-B131-4181-B426-7B837A5D66B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E2A2BE-CA6F-43FF-9FA1-EE081F00438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AF2A34-A76E-444D-829C-0ED7D602F68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1886A2-C1AB-4C07-A010-690DAC78F68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2EFCD7-01D7-4801-AFA9-B7272134367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FCD8A4-06C7-4FF4-A34C-054781F5BCF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06C835-8C85-47F9-B999-40ABBEC6FA7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E5C332-C2DF-47E0-BD16-B7C11083C5D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4F6B08-9F1C-4FB6-892A-7E4C401B487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E018FA-A3B0-4473-9959-68625FF1570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F1BF66-97BC-46DA-B13A-3AD7364F261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870D34-DEFA-48EF-8FF4-9A3B0BCD8FC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1E2E6A-1209-4DDF-9CC9-9EB494324ED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C0B3B0-9CC7-46EA-909C-7D519873BB4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39B3C0B-CBB2-4DC6-9828-BABD3F1B8DC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A5DE0D-3AF0-43C6-9090-2C5FA7607E5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26FBB1-9C92-4443-912B-2B49120FBED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BDB045-7AC3-4667-961E-528B7A79049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09C06E-8FF4-43E1-8989-6341CEF5CAB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5DC565-5394-43D8-A924-821F567A7CF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48305E-08ED-4B2F-94D0-2725A28595F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17C0E2-F4A6-4086-8B03-8FDCC0BF82B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03E5D3-367A-47DA-8F05-ADCB18F085A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9DC16F-A4E9-4752-A222-331D16F9F48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320A7E-E361-484F-986F-E2DF470673F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8133DE-253A-44C7-AEC0-13BDE510A66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FE1D1A-9951-4BAD-8EE2-CA4F3767C35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F7989A-4F08-4624-AABA-56F091059C5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