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38421"/>
        <c:axId val="25908691"/>
      </c:barChart>
      <c:catAx>
        <c:axId val="22438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08691"/>
        <c:crosses val="autoZero"/>
        <c:auto val="1"/>
        <c:lblAlgn val="ctr"/>
        <c:lblOffset val="100"/>
        <c:noMultiLvlLbl val="0"/>
      </c:catAx>
      <c:valAx>
        <c:axId val="25908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38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B26-AB79-4DF7-9CFC-0961F90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163-700F-41C8-B088-E28DE772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7D8-7402-4FF1-941F-E1B0D271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768-8800-4756-B2F1-093C2594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70B-DD81-4D19-A11D-3AC5B9C9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9EB-B240-4EB4-985F-5844682B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902-282A-4A85-8BE3-D1C5E8C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BF1-AF66-4635-B29C-19A54365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0DE-3C23-4C74-BAA9-CBBDEA1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577-5641-48AB-A9A5-B541D9CF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B14-413E-4C0E-9344-BDA4063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D70-9801-4B1B-9A1A-A2F217C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F844F-EFC6-43C5-929D-6B91041B6A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