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99297"/>
        <c:axId val="2353537"/>
      </c:barChart>
      <c:catAx>
        <c:axId val="43199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3537"/>
        <c:crosses val="autoZero"/>
        <c:auto val="1"/>
        <c:lblAlgn val="ctr"/>
        <c:lblOffset val="100"/>
        <c:noMultiLvlLbl val="0"/>
      </c:catAx>
      <c:valAx>
        <c:axId val="2353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99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C85-62BE-4214-A704-818CE452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A80-847E-4780-82CD-EE18A566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B1A-01B2-48B1-A789-5186B547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FC0-67D4-4D7F-AC90-087B1C20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3C1-E9A4-4D0C-BCA3-A2B03FFC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6B3-7C97-404F-A04C-9B7FDA1E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363-7E17-48D8-8025-40C40DDF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5CB-B37F-44EE-BB42-8436DC04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275-168D-4DA1-BF1E-2F5D0058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319-9716-4AEB-8E85-33829553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677-4DBC-4FE8-813C-778DC1E4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B88-7F01-48BF-B1A3-1E0BBF8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3327C-63C2-4E53-8C9B-A261F4A00F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