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12783"/>
        <c:axId val="29530416"/>
      </c:barChart>
      <c:catAx>
        <c:axId val="73612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30416"/>
        <c:crosses val="autoZero"/>
        <c:auto val="1"/>
        <c:lblAlgn val="ctr"/>
        <c:lblOffset val="100"/>
        <c:noMultiLvlLbl val="0"/>
      </c:catAx>
      <c:valAx>
        <c:axId val="29530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12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B6D-A5C2-4FF4-BBEF-0D9407CC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384-DBAF-4567-8147-08904E2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C8E-CCE9-4AF7-9329-A8CB8D41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D6C-954D-4BB7-8E3E-3B8E85C2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0E0-700F-41D2-AA50-B443ACE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DC1-2B1B-4D69-80E4-B8EB5B3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F9B-4586-4769-B435-11C38D0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E33-D98E-4AFF-9D0C-188C56F1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539-A287-4319-92B8-1BA2410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786-914D-40CF-A8E0-FC024DA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02B-204E-4DF8-982A-1A17605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CE3-3A1D-4109-AE09-BACA46AA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BF0B-1758-4F8E-B2AB-BB8C17C8F7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