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72930"/>
        <c:axId val="48174997"/>
      </c:barChart>
      <c:catAx>
        <c:axId val="89472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74997"/>
        <c:crosses val="autoZero"/>
        <c:auto val="1"/>
        <c:lblAlgn val="ctr"/>
        <c:lblOffset val="100"/>
        <c:noMultiLvlLbl val="0"/>
      </c:catAx>
      <c:valAx>
        <c:axId val="48174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72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90B-2C2A-4D64-A832-EF554271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4E0-4481-4622-8426-E4E01B63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8DB-C92F-4997-BF0F-E08B8F0E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BA6-3B2A-4722-8164-5B0FEC52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F2B-ACE5-42DA-A9F7-88F2CD57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D1E-4A7E-4EF6-BFC2-716D6822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4A4-E6A4-4D9D-A55E-55AB9BBD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BBC-E6AB-44D0-91FD-B396E6A4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D32-E7C4-4767-8819-F8B8CE7A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260-6543-43DB-8063-F8F0CB88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B0A-2581-4858-BF55-7AF28F2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85E-30BB-4FC0-B6F7-F9C2CCBE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441AE-7EC1-41E1-BF53-ACCD5DB856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