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9539"/>
        <c:axId val="4434758"/>
      </c:barChart>
      <c:catAx>
        <c:axId val="789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758"/>
        <c:crosses val="autoZero"/>
        <c:auto val="1"/>
        <c:lblAlgn val="ctr"/>
        <c:lblOffset val="100"/>
        <c:noMultiLvlLbl val="0"/>
      </c:catAx>
      <c:valAx>
        <c:axId val="4434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77E-0E8D-4C82-B5FB-8E23D86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3B3-D532-46F6-96BF-88A7389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CDA-724C-47DF-BA10-18432398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6A7-6486-4EAB-892D-3DE11853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C93-911C-413A-9020-2A81FE7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C11-B4E8-4E41-AF29-B706F13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55F-7092-491B-B186-BB2DB444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53E-F690-4EA0-AC16-7CF93A48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7F8-CE9F-43B0-9310-420FFD22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4F3-2853-46AE-9387-D490E5E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DFA-91AA-436E-ABCF-824D7E8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D5-7192-4395-A96D-191A9C5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F4EF5-4874-42B2-B98F-EC186DD5B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