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98684"/>
        <c:axId val="21507064"/>
      </c:barChart>
      <c:catAx>
        <c:axId val="73798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07064"/>
        <c:crosses val="autoZero"/>
        <c:auto val="1"/>
        <c:lblAlgn val="ctr"/>
        <c:lblOffset val="100"/>
        <c:noMultiLvlLbl val="0"/>
      </c:catAx>
      <c:valAx>
        <c:axId val="21507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98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362-625F-40C8-BBB0-32DDA14F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BB3-A658-4C68-BC26-1EEA5310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028-0A20-4C5F-8897-7FE27298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B8F-C44F-49C3-9847-BF2CFE45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062-241F-4580-9544-2DE7DA9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D76-A261-4085-9E86-ABA8C1E8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8CF-C21C-48D2-BE7D-34C8BA47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B05-1149-466C-9A49-79D199D0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17C-DD7C-447D-BFD5-19C3502D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553-ACE1-4C7B-BF35-D6ACA96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397-7419-43B9-B4BF-0AAE376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3C4-435F-4BA2-88EA-741FA32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A318B-8803-4EAF-ABD3-A8DDBD20C0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