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12040"/>
        <c:axId val="90745380"/>
      </c:barChart>
      <c:catAx>
        <c:axId val="75312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45380"/>
        <c:crosses val="autoZero"/>
        <c:auto val="1"/>
        <c:lblAlgn val="ctr"/>
        <c:lblOffset val="100"/>
        <c:noMultiLvlLbl val="0"/>
      </c:catAx>
      <c:valAx>
        <c:axId val="90745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2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206-1E07-47D6-963A-AD55691A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794-8E0C-457B-B2F0-BDF6442F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05D-326D-4CA9-81A8-05582E06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CB6-06CA-44D4-86DC-FC70D8ED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465-E8AC-4B92-B249-C2ABEA7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FEB-01BD-4239-BEBD-BB7B4F8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6F8-A8A7-4C3A-B1F3-3379A16A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4F8-1950-44FD-8A49-AA55FDD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E66-6258-4333-AA4A-ADB93984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1AB-E7AA-42F2-8686-95D0C94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52B-6013-4EE2-936E-97665E5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388-7DE7-4337-A3CD-BBC0C165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87BF-26A8-4367-8872-1ED0C23494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