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17276"/>
        <c:axId val="66631227"/>
      </c:barChart>
      <c:catAx>
        <c:axId val="53617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31227"/>
        <c:crosses val="autoZero"/>
        <c:auto val="1"/>
        <c:lblAlgn val="ctr"/>
        <c:lblOffset val="100"/>
        <c:noMultiLvlLbl val="0"/>
      </c:catAx>
      <c:valAx>
        <c:axId val="66631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17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DDB-AF97-4475-86B9-DC19794D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CAD-2B50-48EA-9E7E-F04FE42C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401-3036-4E82-94E5-3C1EC640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A1B-C467-4C0F-B781-FE868844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6D3-D010-4B12-AF4C-54A329AA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6DA-2CE5-4A65-9460-77BD0DFB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0B7-1FD2-4DE5-8C86-E743E727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6AE-34DF-4545-AEA7-813DE66F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AF7-0D5E-4396-A324-E07D4764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711-4114-4581-8707-83C6A82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62D-136F-4D83-8E33-FB635CF0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DD4-2EFA-4933-94F8-9418319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9EE65-4023-4160-8FC4-C0314D70E9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