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71539"/>
        <c:axId val="89055780"/>
      </c:barChart>
      <c:catAx>
        <c:axId val="44671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5780"/>
        <c:crosses val="autoZero"/>
        <c:auto val="1"/>
        <c:lblAlgn val="ctr"/>
        <c:lblOffset val="100"/>
        <c:noMultiLvlLbl val="0"/>
      </c:catAx>
      <c:valAx>
        <c:axId val="89055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71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8E2-2A7E-441A-9912-6567C357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C0A-D9EB-4B41-8D82-820F7911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7A1-2856-43B0-84DC-FD0E4E2C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975-EE2E-4438-8E59-55D4651C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514-3F8D-43A9-A8AB-EAB9B33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D83-B0E8-4650-B260-B16DDB06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C20-EA96-48EA-95CF-EBD4159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06C-7212-4FD3-995D-B16BC9A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D20-C782-4320-88C7-FFA29D8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58E-6A1D-46A7-9F3A-95F3EA7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A3F-E8CC-45F0-BF8C-90E4FAB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F53-73BC-4208-9EDE-3F197B4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E6C74-3AE8-4A4F-B1C7-9BA0C09DBE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