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40203"/>
        <c:axId val="15371717"/>
      </c:barChart>
      <c:catAx>
        <c:axId val="965402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71717"/>
        <c:crosses val="autoZero"/>
        <c:auto val="1"/>
        <c:lblAlgn val="ctr"/>
        <c:lblOffset val="100"/>
        <c:noMultiLvlLbl val="0"/>
      </c:catAx>
      <c:valAx>
        <c:axId val="153717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402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131E-8C0C-4311-8B81-34A42067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FD2-7122-4FCC-91CA-50F84D7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557E-48F2-464E-A14F-92412303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604-216F-4C3B-A150-6AF322BE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1593-4859-423B-990C-D6FD885D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C343-C349-4EEC-8641-BBEE915A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67D-45C3-4D93-9659-7B02738A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D3C-2BA9-45BB-B524-8D9349FC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E73-89B5-43F8-87FD-771D3429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FB1-50A3-4EF5-8013-D552ADD6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37D-7097-490F-9EA2-17532F9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67D-70AF-428B-B9BA-3442203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7299F-5DCD-4E48-90DE-8D7DC915AC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