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90677"/>
        <c:axId val="78821838"/>
      </c:barChart>
      <c:catAx>
        <c:axId val="77190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21838"/>
        <c:crosses val="autoZero"/>
        <c:auto val="1"/>
        <c:lblAlgn val="ctr"/>
        <c:lblOffset val="100"/>
        <c:noMultiLvlLbl val="0"/>
      </c:catAx>
      <c:valAx>
        <c:axId val="78821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90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FEF-7845-457F-A0CF-71ED83CB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F88-3591-477C-A6DE-5FC0DEA5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B35-CB49-45D9-A2A0-3408C87A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B08-89A1-4D67-A2F1-EAB549A4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35B-42EC-4C5A-B910-8181E894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B02-E47E-43B6-BEBA-C15FFF5E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70D-2C8C-4712-BE46-28753C8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00D-0EF5-4A3A-A13B-2D612E15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8D1-F097-4A8C-B8A8-4BED89F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F56-2B38-483A-9F19-87BCC98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E3E-7E00-49B8-BBDE-F0134C7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34E-82DF-4056-B760-F088BCF2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7555C-3980-4F2F-B078-7317322CE7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