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345109"/>
        <c:axId val="60779530"/>
      </c:barChart>
      <c:catAx>
        <c:axId val="253451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79530"/>
        <c:crosses val="autoZero"/>
        <c:auto val="1"/>
        <c:lblAlgn val="ctr"/>
        <c:lblOffset val="100"/>
        <c:noMultiLvlLbl val="0"/>
      </c:catAx>
      <c:valAx>
        <c:axId val="607795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451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5AB5-C7E4-4DE2-AB80-B7237C74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1F5E-DF51-445B-AEDE-C622DA09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F42-C52F-4AE5-B1A3-6724780F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A2C9-F428-485A-955E-0A67CEEE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6958-2BD1-472D-BF46-E80C732F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6610-522A-480F-AC86-1C35964A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F91E-A960-4466-B7B4-AD674A11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431-20D3-4EE7-849E-711610BD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137F-125E-4245-A4C7-25C1D301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833-02D0-4612-99D0-9BC65286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0FE7-45BA-4C53-AEA2-B16F7400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B15E-0DE3-4D54-9B30-BE4802AA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7A045-57C5-4617-937A-F15F563845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