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57897"/>
        <c:axId val="75614293"/>
      </c:barChart>
      <c:catAx>
        <c:axId val="49457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4293"/>
        <c:crosses val="autoZero"/>
        <c:auto val="1"/>
        <c:lblAlgn val="ctr"/>
        <c:lblOffset val="100"/>
        <c:noMultiLvlLbl val="0"/>
      </c:catAx>
      <c:valAx>
        <c:axId val="75614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57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673-3A71-486B-B0F4-8A4EDF5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403-E259-41ED-8CF0-4E50ECB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B6E-0A9F-4DBC-8A80-DC91ADA9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385-C948-4B45-890A-0246713F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9FF-785C-4A4F-903E-24E3D644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518-96B8-4052-ADA1-1550989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90F-3B5B-4519-B36F-908CFF08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989-5C23-4EC6-8A69-2FEE75C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773-28A9-43C0-B956-2D6F48D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FE2-839B-4916-842E-9BDA888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C5B-330D-4C3F-9F02-1BDC7A6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B96-0968-411C-A7FE-0DF3D42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ABFCF-54E8-4CB9-B81E-817D7CA54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