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98231"/>
        <c:axId val="53060665"/>
      </c:barChart>
      <c:catAx>
        <c:axId val="49898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60665"/>
        <c:crosses val="autoZero"/>
        <c:auto val="1"/>
        <c:lblAlgn val="ctr"/>
        <c:lblOffset val="100"/>
        <c:noMultiLvlLbl val="0"/>
      </c:catAx>
      <c:valAx>
        <c:axId val="53060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98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EA1-8B1D-4A92-BA4A-F4B144ED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3DB-F2ED-494F-942F-14A765B7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D77-7FC8-4446-B185-C5AA57C3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973-A365-456F-8626-5049F031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2C6-BC2C-4EE2-9216-101E2DF6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99E-C502-40C1-A788-6024AF57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990-B550-455E-B65A-46FBAE54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BBF-A867-4777-84E9-4504E97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EB3-EBBF-4999-AEF9-395D5AB1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6DE-4A27-492F-9B96-7F0C0A5A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7D0-095F-4B78-9224-48B9310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630-8218-44AD-8010-B42E239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BB702-3D20-4217-96A4-6E7769A80A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