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82360"/>
        <c:axId val="16824361"/>
      </c:barChart>
      <c:catAx>
        <c:axId val="23382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24361"/>
        <c:crosses val="autoZero"/>
        <c:auto val="1"/>
        <c:lblAlgn val="ctr"/>
        <c:lblOffset val="100"/>
        <c:noMultiLvlLbl val="0"/>
      </c:catAx>
      <c:valAx>
        <c:axId val="16824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2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9ED4-82C7-4ADA-AE13-2E67EFC3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F06-A3D3-4FF4-97E4-E918ECAC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BF79-8FE9-497A-9E56-E6F4A753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C17-97A4-4EEC-B590-7A2CFD98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B644-8D98-4E55-BF87-2DD2B20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B2E-6509-4401-A96B-50F99493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12F-6F74-4ED5-952B-89C943A6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CC8-EA7C-40D5-832D-0C15B7A8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841-2E03-496F-B03E-C8FC5D58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E1EC-552E-47D4-8EAF-699FD34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DDE-9D90-465F-AE3A-15C7556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BF8A-21AC-4DD6-AAE4-1E2936D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E6ADC-69F5-4211-BB3D-5427A3718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