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38998"/>
        <c:axId val="50448805"/>
      </c:barChart>
      <c:catAx>
        <c:axId val="58438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48805"/>
        <c:crosses val="autoZero"/>
        <c:auto val="1"/>
        <c:lblAlgn val="ctr"/>
        <c:lblOffset val="100"/>
        <c:noMultiLvlLbl val="0"/>
      </c:catAx>
      <c:valAx>
        <c:axId val="50448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38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4B9-BB36-4851-88CA-AE4BB890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E7B-4D1D-44AE-AE4D-5766781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57F-8722-4E6D-89AC-8418894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035-9DE0-4701-9A9F-9CCD761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00B-52E7-4D83-BFFC-F3A4260E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E4F-2FDB-40D0-A853-7F4C11B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75B-D693-4086-B753-BD619C8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B3C-03D4-49BF-99D3-0CBC6597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B5E-6591-4897-8825-E9A44754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0D0-CF33-4EB2-B03C-429C691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CDE-8E14-4DBD-8C55-91F9B42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0DE-C056-44D5-B197-FE99B0E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7EC14-F385-4D45-B4E2-5AD66A6A9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